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ct" ContentType="image/x-pi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A84-6F80-4867-BB6D-A42A2FA7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841-9E5C-4F8F-A5DF-48228915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1C6-CB90-40F5-A920-D1B411BA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8C2-3C2C-41F7-B59A-46ECEE94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64AB3-51A3-4A66-92E3-6DB31E8E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4FDA3-2C46-481D-AEBE-6DB333D6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AF6CA-CE5E-4CD2-9F7D-98627D75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F068F-FB95-472D-87CF-D86F3526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DE105-AAC6-48E2-9DB7-05CDA6B9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38DC3-F181-4A53-A9DF-F9F2D60F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026A0-CF89-4F97-BB5E-71CBCB7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FAF-F2E4-481C-A9A7-54292EB7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25A55-8877-4675-AF98-64415AC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B449B-A559-4E45-8415-7B7490F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18D4E-1CBF-4099-BF85-C6CF4911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615B8-C651-4F6B-87C1-4667FB50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94751-F6D2-4B80-8795-8240B1B3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EB65-94A4-4C33-BFAB-099D4E75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BF17-605E-430F-8460-06FC7A2A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B227-AA7F-4C7A-BCBA-EB34DAB1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24802-42B4-43E9-9749-9AB86EDE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847A-7AB5-410B-9CD0-15AF0DB1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7FF-4838-41C8-8293-42FE66D1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A414-4830-4E7D-AAD8-0C495218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1388-2C56-411C-A5F7-0920BC79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DBAA6-CA5F-4D2F-BE81-30FB0921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63EF-6C16-4D7F-B5D2-9DD20F4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AFF2-7428-48FC-B938-219DF8E9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D0D5-8A7D-4873-ABA2-85ADA378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979E-FA17-4A41-ACAA-678020DF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43D4-8E6E-4C72-BC66-C9384AB3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4F403-5FA3-4066-A3CF-A30FC815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314A1-76CF-4219-B9CE-A00348F3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1A3-8DB9-4D66-A4ED-60F45F66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FBF6-EB83-4E95-9867-75517375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FA9D-8C60-4F57-B432-40362DEA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1D025-BF16-4D3B-B150-EF5BB07D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07FC3-3558-4456-A69E-EC8C8BE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2B524-765A-4C77-A0FA-D6C5EB21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8DFF-479C-4E7C-B022-B594394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36AAC-F868-4301-A24E-EC14F700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10F53-D7CC-4CE2-B1CA-D642014E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3624-FAAC-415A-95BB-2D56784E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643E-6236-4618-8DEE-7B2E92B9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771-AEED-48B9-8C2F-5763757E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0025E-552A-4972-93BD-6BD93D61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E914-548B-49C7-99A7-2043C012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83111-182B-4405-90DC-0564BE4F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31B3A-888E-46E9-8F6B-84F9C8D4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17671-3401-4A87-A5BB-59FFB20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C1568-A919-4393-A60A-0134ADC6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EC6D2-6BC6-4F34-B739-9E5929E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0B2E9-83AF-4B44-B8A3-1BD217C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7281-C9E1-4460-BEBF-72AE4EC4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81B23-840E-4AD6-BB9C-CAE53EF0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C99-89E3-4A58-955E-7F1F93DB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C9697-01FF-499E-8576-067C9714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F8B7-E5B1-48FA-AC56-2B4771FE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FD8E8-1AFD-4C47-96BD-2623A195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8EE3-15E3-48F4-A9DD-1F781969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41DE9-81B6-44D9-88E3-2EB1B31C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971C-E130-402B-83C8-3633A34F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95807-6055-4D0D-9A1B-70285214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36440-EBC3-4629-9943-7949A3DE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65D40-A6EC-43AE-8B45-0CC3E5FD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D995C-A604-48BA-AD99-94EDF94E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017-6258-4834-B8AC-8DEB2CD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6CBA6-9483-423B-9B0B-4A3867E7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7F7AE-6E64-45DF-8263-5343BF14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7C0E5-A50C-4B44-B7EC-DD3C8BD8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0DCF9-8CB4-4035-91FA-0781EC5E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E998-C3BF-41F0-940D-1D17E328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860AA-3A54-4886-A098-D21A9ACF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BE821-2459-41C8-BC0C-E19CF754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B6107-FD6D-4A37-BA9A-C2AEEB3A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DE7F5-4436-4018-A64A-3B25FBB5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5650-D522-496A-88CD-7C9A485D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AFD-A6A7-4F78-9B90-42B8D188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32996-EBFE-4E5A-B4E1-B55B016F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60F6-AC2B-4C1F-9313-8EBC9A2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F3905-042F-47AD-8293-37328AB3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E5A4F-481E-471A-A3EA-C1B6EBE6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C46D2-DCF0-4CA9-BFCE-F8C55E67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5271F-D067-4A43-A4C8-F26EC79F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EEE71-984D-40EE-8B4A-C3052203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3DCE8-747F-43C9-A05D-01CA5AF3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FF580-91A4-4946-8CE3-20174BDC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A91DB-72B2-46E8-A535-F1743521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37F-A0F6-453F-8789-27277C2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9AF77-9DDB-43CC-A6C8-9721152F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E6E05-FFC1-468E-932E-0AC0292F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198EB-1934-4592-9149-5FC8860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FAFA8-48D3-4F3B-8AA8-25F5E2A0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F668D-6FFA-42E5-A46D-35503C9D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FBF9D-1C43-4669-9316-B19365A8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ED0AD-AFEB-4EDA-9E4F-2FFD703C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40338-1C68-4DD5-8192-F21C8F3D9A2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59E5A-9A7C-477C-9FB1-CD7DE794543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A27FA-2995-4AF6-83BB-AED164EFCFF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784C5-D6BE-4E99-8E92-C8D4CCF6EE14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5746B-B6D2-46E1-A181-C4DC0565950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288CD-65C6-4A13-8115-2E0C1A8D62AD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A91D4-04F1-44FA-8591-3EF834D602A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7EF40-CB2F-454A-86AB-38066963C66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11F0D-CA55-4E26-AA54-FF22D3C4531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12907-8824-42E9-B244-C5864A2524A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F82D5-945F-4D0F-8228-498BEB7E60F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52ACF-7CE9-4929-AC43-305A4EF0463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328CC-6A15-48A4-9437-DB1A1AA3E08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C3608-77C9-4BB5-936B-DAD4DD69647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A30EC-84F8-45ED-B3D7-65AFDE8B7B4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553E9-C475-4BDA-A827-D6C6947AE63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4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Learning Goal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sto MT"/>
              </a:rPr>
              <a:t>What are they?  How do I use them? 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-1797120" y="2871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Steps to Writing</a:t>
            </a:r>
            <a:r>
              <a:rPr b="0" i="1" lang="en-US" sz="4700" spc="-1" strike="noStrike">
                <a:solidFill>
                  <a:srgbClr val="404040"/>
                </a:solidFill>
                <a:latin typeface="Calisto MT"/>
              </a:rPr>
              <a:t> Quality </a:t>
            </a: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Learning Goals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lect the verb (Highly Important Step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rite the noun phras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e sure that your goal is “measurable”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nalyze your unit goals for cognitive complexity to ensure your unit is balanc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Bloom’s Taxonomy of Thinking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35080" y="2133720"/>
          <a:ext cx="8557920" cy="3840120"/>
        </p:xfrm>
        <a:graphic>
          <a:graphicData uri="http://schemas.openxmlformats.org/drawingml/2006/table">
            <a:tbl>
              <a:tblPr/>
              <a:tblGrid>
                <a:gridCol w="1641240"/>
                <a:gridCol w="1505160"/>
                <a:gridCol w="1385640"/>
                <a:gridCol w="1408320"/>
                <a:gridCol w="1190520"/>
                <a:gridCol w="142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now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ompreh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now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Understan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pply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nalyz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reat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valuat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Retrieve knowledge from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onstruct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mplement a procedure in a given sit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eak material into parts &amp; determine how pars relate to one another and an overall 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ing elements together to form a new pattern or 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Make judgments based on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oal:  Students will be able to </a:t>
            </a: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understand</a:t>
            </a:r>
            <a:r>
              <a:rPr b="0" i="1" lang="en-US" sz="2000" spc="-1" strike="noStrike" u="sng">
                <a:solidFill>
                  <a:srgbClr val="262626"/>
                </a:solidFill>
                <a:uFillTx/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at a myth is a story that explains something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eam Task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</a:t>
            </a: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Rivers Around the Worl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Use the theory of Backwards Design to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Clearly define your learning goal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Identify what evidence (or assessment) would effectively measure student learning of that goal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lan a method of instructio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So, what will you actually be teaching about?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Identify a topi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Design a web of questions around your topi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ece9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Tell the </a:t>
            </a:r>
            <a:r>
              <a:rPr b="0" lang="en-US" sz="1700" spc="-1" strike="noStrike" u="sng">
                <a:solidFill>
                  <a:srgbClr val="404040"/>
                </a:solidFill>
                <a:uFillTx/>
                <a:latin typeface="Calisto MT"/>
              </a:rPr>
              <a:t>whole</a:t>
            </a: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 story!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ece9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Bring it around to today!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Turn your questions into learning goal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5-10 cognitive goal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1-2 psychomotor goal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sto MT"/>
              </a:rPr>
              <a:t>1-2 affective learning goals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Look to the GLCEs/HSCE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Analyze your goals according to cognitive complexi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ece9d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3"/>
          <p:cNvSpPr/>
          <p:nvPr/>
        </p:nvSpPr>
        <p:spPr>
          <a:xfrm>
            <a:off x="3035880" y="338148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Early European 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earning Goals/Outcom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pecify what students should learn as a result of the instructional experien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“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nstructional intent”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s made up of a </a:t>
            </a:r>
            <a:r>
              <a:rPr b="0" lang="en-US" sz="2000" spc="-1" strike="noStrike" u="sng">
                <a:solidFill>
                  <a:srgbClr val="262626"/>
                </a:solidFill>
                <a:uFillTx/>
                <a:latin typeface="Calisto MT"/>
              </a:rPr>
              <a:t>verb phrase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&amp; </a:t>
            </a:r>
            <a:r>
              <a:rPr b="0" lang="en-US" sz="2000" spc="-1" strike="noStrike" u="sng">
                <a:solidFill>
                  <a:srgbClr val="262626"/>
                </a:solidFill>
                <a:uFillTx/>
                <a:latin typeface="Calisto MT"/>
              </a:rPr>
              <a:t>noun phras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Verb phrase  = cognitive process that is the intended learning outcom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un phrase =the subject area content that the students should learn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31920" y="270000"/>
            <a:ext cx="83437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Terms to Remember….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lig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isalignmen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ackwards Desig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Your goals should be in alignment with your instruction &amp; assessment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58800" y="2521080"/>
          <a:ext cx="8089920" cy="3475080"/>
        </p:xfrm>
        <a:graphic>
          <a:graphicData uri="http://schemas.openxmlformats.org/drawingml/2006/table">
            <a:tbl>
              <a:tblPr/>
              <a:tblGrid>
                <a:gridCol w="2697120"/>
                <a:gridCol w="2695680"/>
                <a:gridCol w="2697120"/>
              </a:tblGrid>
              <a:tr h="64260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Goal (#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Assessment  (#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Instruction (#3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64260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xplain how a bill becomes a l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  <a:tr h="119124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ompare daily lives of children during the GD to the lives of children to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</a:tr>
              <a:tr h="64260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Use patterns to skip count by 5s, 10s, &amp;2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  <a:tr h="642600"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dentify statements that are sim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77040" rIns="77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Should we make our students aware of our learning goals?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04040"/>
                </a:solidFill>
                <a:latin typeface="Calisto MT"/>
              </a:rPr>
              <a:t>Where do learning goals come from?</a:t>
            </a:r>
            <a:endParaRPr b="0" lang="en-US" sz="4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te and National Standard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te that standards do not necessarily make effective learning goals 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GLCES &amp; HSC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Benchmarks clarify the outcome stated in the standard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eacher Editio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23:00:29Z</dcterms:created>
  <dc:creator>EMU User</dc:creator>
  <dc:description/>
  <dc:language>en-US</dc:language>
  <cp:lastModifiedBy>EMU User</cp:lastModifiedBy>
  <dcterms:modified xsi:type="dcterms:W3CDTF">2010-09-20T13:12:47Z</dcterms:modified>
  <cp:revision>5</cp:revision>
  <dc:subject/>
  <dc:title>Laying the Groundwork for your Curriculum Unit</dc:title>
</cp:coreProperties>
</file>